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DAE-E7A6-4C51-B93C-790B6006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561-F948-4FFC-B717-3528043F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ACFA5-188D-440D-977F-32093DEC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EBCE4-AD84-4496-8E66-05CBC4A5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06C6F-4B4C-4B72-BBDB-DC887501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CA269-E77F-42B6-A472-D9D6167D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4ABB8-E564-46FA-AE42-E11B9292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11BFF-33A2-46CE-BE47-D195DE27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F9B7C-93FA-4149-8C85-21AAEE50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AB92E-4EC9-4913-B6FE-D94F591F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421B8-853C-4F4C-A4AC-58CD3E44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B08B2-0CE7-4AAE-B6C8-4F554BDF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B91-4090-434B-8499-39F9D333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ED647-B709-49AA-B9A1-A62AF426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10C00-2CC9-4D8E-A41B-CE2E2592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76216-1902-482D-ADBC-B521DA53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D723B-57CE-4711-97CD-31F3F6DB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46BE9-F7FB-44DA-BBDA-5EE14AF2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82835-20EF-4DB7-A2B4-EB068A5E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4AF36-1C88-4B59-AE6C-470BE60C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4690D-9C20-4869-8CAC-A91D5734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8AFAA-D8A7-412C-A118-726C0EB7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AC822-5463-456C-BD65-53B80BCE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641-F7A0-450A-B55B-B495DE8A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F8182-78FD-4971-9904-B9DDC7B3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1A3F4-1A32-42A5-B73D-2563BE7C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0B4F3-7A3E-4786-91EC-A6B871E3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37159-B6DF-4EB0-BFF6-38628C5A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1B181-5601-4108-8B8F-4322673F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2D5C8-288E-4C21-BB85-9FA65202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833A4-63DB-44AD-BD7A-53CE188F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00F87-6340-45F8-9717-C14FE0AB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32007-C8B1-4A99-9043-939668C5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4ED41-2679-4F4B-8B45-B57FC06D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BD28-511F-499E-974E-B82FBADD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A3D33-75D7-4E06-9AF1-6C93BF92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0408D-1781-4BC2-BDAA-31F36480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10CE0-B19B-415C-8B52-5BB7E22C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93C51-E0ED-4C59-8C58-E984A4E3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F1E3F-A9E8-461B-88FD-4FAD2A48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49D5D-957F-47E9-8461-192E5549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D7BD7-323B-43B2-97D9-FCC3AED1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5CB1B-A3A2-4B33-A2E7-C4B2B365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E2A62-0EA9-400E-B5F6-D6DF7051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BB3F7-73C6-4BA7-9E21-9B95317E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2910-3469-4420-A5FE-2EC2F98D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750BC-8FCC-43F0-8478-E5F85671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D4C62-3923-4B71-8AE8-A7541021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0305F-5A66-4712-9EB6-750F39E5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ED0C7-4BAC-4408-B1F7-8F291DA8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2BAD6-A9AC-44C8-8030-F74715FE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64AEB-4800-415D-B52B-80A5B358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CEF0E-2517-45D5-A4D0-FA06D061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663CB-0ED4-40A5-B355-C141BD8C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DDBB4-A66D-4D9E-8F53-8466D70C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E6821-1A58-4E0C-A220-A6F079CE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0B3D-486D-45CA-8198-92F50888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04A46-830C-43A2-9590-5C18D1FE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BA9BD-13D4-4190-88D9-35BCB2FE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C6252-9760-4D41-AC83-41D91666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AE7D1-FA21-4A8B-91EF-7F8FF9C0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22F37-5C50-4925-B075-EBEEEE16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8123F-14D6-45C9-A17C-AF81AE53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73698-86F2-4308-AFED-36C133E1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DE2F6-60C6-4727-B1C9-6EA0169B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AB109-22A2-47E8-BBD7-D51091F9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05FD12-34F8-4D88-A24C-6DD9B53A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0C23-B523-486F-B17C-05940F70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BDDB9-3D8F-40D2-ACAC-67407B69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F4C9A-F5CA-4A08-85C8-4F8D4E5F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ED87C-41CF-4AFB-ADEE-81484D8D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35D9D-87FB-4839-93E9-B9B331CC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5B8AD-762A-41AD-A672-7038421E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C1055-A851-4151-95D7-5BA3ADBF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639AF-7DC5-4CA1-916B-808A9D2A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85B0A-1F6B-4132-92E3-B44B0231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72CAF-EE20-4B96-8E9C-FB7DA234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964F8-4CE2-4C6F-BB04-3493A1C7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7B82-B570-42DE-921B-21B4BC41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4ECF4-7913-4A00-9862-86DA6673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6B0AE-68FC-4BED-86C7-9386441A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53FD35-CA46-4F62-8084-89B80A94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015FB-AB30-4257-ADB3-6CC6A110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C8A11-B29E-42DC-A764-7B308B89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F8145-BF16-4895-AE31-1BCBC791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70FCC-1DCF-4D49-A712-E56D6532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EB83F-0E22-4FE7-B1F4-6E962F5A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622FA3-B9F6-4C36-816A-F63CF762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95D83-6E73-4D80-B6E0-A41572D9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79BC-C171-4857-8513-850A806B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7762C-4578-439F-8BF0-4AA76DE5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BB8E9-E513-494B-8820-AB1DAEED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C0F6C-207F-4D48-98D8-03FED45D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70F7AD-5FDB-4B1D-B0E4-2AA70943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58B1A-6BA9-4C11-837F-6BA36B7D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E80A9-E581-435C-8D6D-212743CD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535DA-634D-40DA-B76A-F93433A0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16C90C-4836-4B9D-8ED7-B7DC30BC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72CC3-849D-47BB-ADA5-BE928DB4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BD108-B9F9-4BDA-A3B8-2719C8A2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DF32-CC69-4E7D-96FD-B4BFC6EA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87BD0-B115-4E77-B852-1D61B562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3DA70-34E3-4460-9942-F408A4C5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D5293-879F-421E-B19F-5AF0E7E0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D611B-1697-4D82-A864-C3C02E2B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55395-249B-42A4-9E75-967DC372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9B0E9-F75F-40C2-A7B9-109AE8E6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8DCA1-93D5-408D-84C3-344EB559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5C7DC-6D75-4537-80C6-0F2903A9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75A216-3DC0-414E-B84F-73E76D82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6460A-80B7-4B67-99E2-F5BF8923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E51-A133-4315-835E-1920F68B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D8BE-BDCE-465E-B615-3BF8BD7C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F4139-E03A-43D7-BE43-67E69B9E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70CC8-9C21-4C2B-9894-6B48C15F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DBC0C-201E-4033-A91D-14F3CB4A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758CA7-13A3-4E0A-9D39-F864BB04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40DBD-375D-464B-80A5-4EEFEE8A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87565A-7AD2-42BB-B464-19C66B7A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390BB-1625-4EF2-AB22-D782342F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E0B8C-7D97-4A3D-8606-F600B4A7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B109E-1D98-4E12-8531-D5B45C6D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F36EF4-5A55-4D7B-AEA8-1149F8EE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18FF-D22B-4901-8A64-855C864F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045DB-4308-47D9-9D4D-826A5664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67643F-E350-49F2-850F-3FE612BF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58390-E2EF-4CA6-AEE0-7C9AA88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64995-D784-48D0-B0E0-075AFB34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1026C-BA2F-452D-9912-2631175A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1222BF-BCFC-4321-B89B-C1D0BF66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737AF9-C27B-4D1E-BF05-FBB9C174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3C74A0-7577-4762-A048-B1036402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9B07AA-CFF7-45F8-947A-167A14E0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51100-7E86-4990-9BB4-1BB1FB0C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C17A-033C-443C-A14E-1D5CA130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0F2AAC-D68F-4FF0-B608-DD517BEA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5AEA2-B283-47DF-9B3C-88D0EFFC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3D6A5F-0B5E-4D08-AE7F-DEB9F0B5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245ED-65B8-4F0A-8C11-5D0501C9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29581-2A78-4AC4-8EE1-9B1097A2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9BC526-BD56-494F-88A8-9C98043E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8FC3EE-A3C9-4356-9884-1AA9E3C4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E00480-56FC-487F-9F7B-156B5C97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B58A4C-B670-42A4-9CD7-BFF28A28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E4E430-579B-48A5-9966-1A75EBB0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75A9-F6BA-48C4-8F2A-7F7176DA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BCA037-DFF3-4A91-A51C-8A9B5E5C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3F1536-9BD7-4C56-9285-8AC94C82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A70C9-2BA6-4ABF-AFB3-F8BF7B9E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53491-0EB0-4660-B639-AD88BEC7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D8CBB0-66FF-4570-B792-DBA3A1C9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0354AC-936F-4B99-A4C2-BC3EDBF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A1D39-58A2-4FD6-9E81-76DF1EDD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6B14A3-BB1B-4651-949C-768145EC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8B4848-9DE3-4E4D-AB1A-01DE5364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185FA-A597-4628-BD7C-9474FC97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F741-0BF4-44D3-B087-B7FCD26A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66B7C6-F60E-4625-89AC-18D7DC63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17F9E-67B7-4328-91D9-DB2B75E8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BC1129-1797-4797-926D-E6EE5A2E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B32176-30D1-495A-9F1D-0D3B7DE2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86A130-AC63-4E89-B87D-10C067B3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3D3283-89B1-437D-8537-43A21F78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647697-3485-4C32-B94C-FAA75155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1DB639-ED9D-4AF6-8E1C-2AE714DF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52A3E7-5601-418E-8A9F-1532F872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169349-44B2-471D-AA96-B0D3605F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B859-E823-4026-90FC-DA231E6F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816BB4-2ABF-42AC-824D-D547CC4C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BB9C0-E13B-4006-ADD7-3A5490A8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A5449F-7F5E-4710-9F22-B8F98FE1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33781E-D70C-420F-8A21-765B52BF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7B4F92-F3CA-42A0-89A1-17568B95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703E47-4F47-4692-A18B-97E6A783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C9A206-0732-4D95-8124-41DF9283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C0F7FF-4C94-4BCF-9AB3-4A99FDC0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47DD3D-0BBE-49E6-9C02-CDA40EFB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461C31-CD82-4D9D-9E73-D9C28293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7E70-A6E8-4A54-BEC0-275C85D8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17AD65-703E-4A84-A668-324D5131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61B93B-D6B8-43F8-8F48-79F52C51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CF3DF5-1F2A-432B-821F-1882DD3C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80FFE1-A3C0-4F81-911E-189B2A13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672E63-822D-43D8-90E6-79742F5E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8E55-94C6-4E70-A9C6-BE87445A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D537-4DED-41CB-B4EA-4526248A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39A9-B528-442B-849E-113486FE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A40-F3C9-4765-BD54-EE791BD0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57D44-5C4A-437D-A280-5F70E058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0166-F9EB-480D-A75B-42ADE493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8038-413C-4873-9D94-557F09AA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E6B19-CFD9-405B-BA1A-01A7675F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68DA7-5EED-491F-8890-9CC0FC67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8DC8-8019-44B1-BF3C-7930E67D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5391-D024-469C-93D3-B3ADF28B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A2FC-22A3-425B-B652-430CEAA9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1A1D8-EB40-402F-B3E7-C9B3D2DC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7540C-6DB8-47D4-B81B-95C80314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40C-FA4C-4D98-AABB-621FF7B1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C7DF6-2AF8-4CC2-9741-3AB00144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CEF9D-A0C4-4AD9-BAD5-E4FA635F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6049A-1C02-49EC-8BA3-BC09F0B0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AB2D0-E77D-46B4-8A76-28DA9F0E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93C3F-A08A-40A5-8CFB-DE0794B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C30EC-D183-4317-894C-EB50DD51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6CC20-7B26-407E-9CF3-2DEB55A0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20B00-1868-4D22-83E3-C6A74AD1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8B31A-9EED-4F59-81E5-8D21B6B3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2FB93-FB15-42FD-A16A-9E1C76FD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D7A-D9B1-4889-8CDD-C939562A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3605F-EAB9-4679-A272-06696684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C11E9-CAE9-4112-A71B-FC4EEE5B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76568-8D27-4856-8FED-3F4C282A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B1E19-F285-4E91-849C-A2023E64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BA39-5AB2-4A48-8716-5A7063E4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FB47A-271C-4262-96D3-82422516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71D75-580C-480A-830B-15EBB3CE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6F24A-831F-4465-9D29-82A5DA4B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088E1-1239-4A31-A20B-7FB18F6B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E9299-67A1-45B0-B94D-BB74D113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F83F-39B1-4387-A9AA-0C338527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C5054-4EFF-428F-8A90-72AF41A1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430D5-0E8D-4FEC-BAE5-E445EC4A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65F3C-3CAD-4102-819C-97A77BB2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EBCC9-E185-4369-BB0F-DA2B37B8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977BD-F025-4B74-8DB1-56E658FC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4227A-A7B6-42EC-8C95-6F380322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D949E-A221-470F-832E-82851A62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B0761-D29E-4EE6-9EDE-6EE0178C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38943-FBE2-45B3-B288-0DED8C35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3DF52-F6F0-4155-A221-0D311A1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B5B-9029-45B3-86C5-B2E8058B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3C372-76A3-4208-8201-1121FE61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C408C-025C-44AB-81F1-6DF066A3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6C18E-733D-4863-B306-FA54A198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6808D-7852-4599-BCED-30697B71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CF6C1-D81C-4DEB-9F5E-79470F47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114D5-32DD-4EBC-82C8-D6CE4DB3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E09CC-FF4D-48BE-B774-6C3A89D4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CAA4D-E816-4869-B33E-025C576A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8888-E4C7-4EAE-8A50-138A9EF3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C111B-DB97-445E-AD57-AD87A64E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24B-072B-41B6-BBE5-2C319033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6CE96-E3FE-48AF-BF29-7C43A279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D5657-BD42-4115-9E33-A4A6BB5E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9B7FC-3D61-407E-928E-E464366A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FD43F-5B58-4964-98EC-258870B0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4424-1F19-426B-8321-9377EE84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77C7A-AC23-458C-A27D-C20AC3CD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4E1CD-A7C2-4804-89C7-6BC9F484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19BA6-CD5E-4E35-8CB0-C391696B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6F60B-8E00-407F-8A6E-1C9130B1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E87F9-08EF-4AE1-94DE-6CE61C09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15F-43A8-44BA-A227-7103C901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155EB-2C86-49DF-A738-81D122BD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77F1D-9423-4D67-A39F-76C5C2E3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87E3C-2DAA-4109-B771-C0AA3241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0CA8E-8D4A-4E74-BA4E-93EAB67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5CC19-2D5F-46FA-8BE9-A6A81688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ECE2D-0C9C-4613-8C03-2563368F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EDA9A-7D6D-4084-A0B4-C35DC4B7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60383-69A6-4960-8BC3-54B79D2D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2D37B-1594-4AD7-A78A-1EBF24BF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DF245-D39D-4A8C-8393-E04CFF1A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A27A-0E7B-4C6F-998E-4BDDE4050F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1914-9AA4-4A9E-816B-A7566D56D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071B-E878-4BD3-8A9D-315714DCA2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5462-E5ED-44C2-90B9-D410D8AA1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D33F-E913-4C96-93EB-6FC29F49E3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8EFF-6B91-495A-BB15-612B18605D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3A0D-6F26-4E70-ABE9-1E0F5B0AD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8C2A-FBBB-4B9A-90FC-84B6B556CD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1B7B-4989-4C03-8556-7336A51F5E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E705-4D47-460A-BDF8-B0234BC8D9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1253-77D8-4E33-A83F-0993F6016D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4D46-D267-4270-B8F1-1F3636666E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527C-C3D8-4BC2-8B75-8B8CDA1C98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A639-F91B-4AEB-8043-49BB8C65F7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2AB-A05D-4034-8132-F49ACE1927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9143-98D0-4FAF-BFD8-5A2034FA3C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AFBD-B96B-4083-B778-CA48217FB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CEF3-2501-402A-AD4A-599172B3D5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4298-3E1E-4CA5-A0D2-76B794A246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B653-9168-4FFC-9FA3-2A345D86B9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F6CA-0F0F-4497-BF7F-333F600D43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A89D-D3E6-421C-A8A0-80A0A71997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6507-3DDB-45F4-ADAC-B25F8717C9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761E-E38B-4212-B10F-B345C331E1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2508-6E80-4615-86B3-DC7CE01497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F7F5-5140-4338-96EF-23999C1AA4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0AB8-3508-4F08-94A2-8660742898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4D0A-4204-41D9-9096-764C4BBD05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6455-8564-48FF-BCC6-8DFC59BEE6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C3DD-54A2-43E7-B090-2B456187E2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E444-C124-4F14-87B5-1D581D1AFB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FE0A-29EB-45B8-9BAA-E3260D8516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F055-1C57-4AD5-B2BC-3B59E7EE9D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8B4C-5E9B-412C-8D60-FAC521E75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5C79-F12B-4A25-A26A-7072FCC2C3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C4D1-334D-4CA5-8394-A0FC86D0A9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0EBC-5CB8-4EF6-8BBC-DE1E3FDF0C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D6FA-406F-4B83-817E-AD60A3BE0D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45DC-933E-4253-9570-4DA7AC5FA7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D337-8C1B-4220-A6B1-6EA464A2E7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FD7B-C0B2-4233-9797-3F41618AFA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128680" y="3057480"/>
            <a:ext cx="48866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42840" y="914400"/>
            <a:ext cx="9058320" cy="50292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562040" y="2637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1547640" y="31561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3794040" y="26510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3780000" y="31701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6012000" y="26798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5997600" y="31989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8258040" y="26798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8244000" y="31989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1417680" y="48736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1417680" y="535932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3549600" y="5589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4370400" y="45957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4"/>
          <a:stretch/>
        </p:blipFill>
        <p:spPr>
          <a:xfrm>
            <a:off x="5234040" y="5589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5"/>
          <a:stretch/>
        </p:blipFill>
        <p:spPr>
          <a:xfrm>
            <a:off x="7178760" y="48117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6"/>
          <a:stretch/>
        </p:blipFill>
        <p:spPr>
          <a:xfrm>
            <a:off x="7178760" y="54021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7"/>
          <a:stretch/>
        </p:blipFill>
        <p:spPr>
          <a:xfrm>
            <a:off x="8704440" y="48261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8"/>
          <a:stretch/>
        </p:blipFill>
        <p:spPr>
          <a:xfrm>
            <a:off x="8690040" y="543096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7169" descr=""/>
          <p:cNvPicPr/>
          <p:nvPr/>
        </p:nvPicPr>
        <p:blipFill>
          <a:blip r:embed="rId1"/>
          <a:stretch/>
        </p:blipFill>
        <p:spPr>
          <a:xfrm>
            <a:off x="419040" y="1785960"/>
            <a:ext cx="8305920" cy="328608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7170" descr=""/>
          <p:cNvPicPr/>
          <p:nvPr/>
        </p:nvPicPr>
        <p:blipFill>
          <a:blip r:embed="rId2"/>
          <a:stretch/>
        </p:blipFill>
        <p:spPr>
          <a:xfrm>
            <a:off x="1562040" y="4421160"/>
            <a:ext cx="1878120" cy="42696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7171" descr=""/>
          <p:cNvPicPr/>
          <p:nvPr/>
        </p:nvPicPr>
        <p:blipFill>
          <a:blip r:embed="rId3"/>
          <a:stretch/>
        </p:blipFill>
        <p:spPr>
          <a:xfrm>
            <a:off x="5551560" y="4406760"/>
            <a:ext cx="187812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图片 8194" descr=""/>
          <p:cNvPicPr/>
          <p:nvPr/>
        </p:nvPicPr>
        <p:blipFill>
          <a:blip r:embed="rId1"/>
          <a:stretch/>
        </p:blipFill>
        <p:spPr>
          <a:xfrm>
            <a:off x="684360" y="1406520"/>
            <a:ext cx="7559640" cy="3932280"/>
          </a:xfrm>
          <a:prstGeom prst="rect">
            <a:avLst/>
          </a:prstGeom>
          <a:ln w="0">
            <a:noFill/>
          </a:ln>
        </p:spPr>
      </p:pic>
      <p:sp>
        <p:nvSpPr>
          <p:cNvPr id="985" name="椭圆 8195"/>
          <p:cNvSpPr/>
          <p:nvPr/>
        </p:nvSpPr>
        <p:spPr>
          <a:xfrm>
            <a:off x="3419640" y="306864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椭圆 8196"/>
          <p:cNvSpPr/>
          <p:nvPr/>
        </p:nvSpPr>
        <p:spPr>
          <a:xfrm>
            <a:off x="4643280" y="306864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椭圆 8197"/>
          <p:cNvSpPr/>
          <p:nvPr/>
        </p:nvSpPr>
        <p:spPr>
          <a:xfrm>
            <a:off x="6084720" y="301140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椭圆 8198"/>
          <p:cNvSpPr/>
          <p:nvPr/>
        </p:nvSpPr>
        <p:spPr>
          <a:xfrm>
            <a:off x="7451640" y="306864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椭圆 8199"/>
          <p:cNvSpPr/>
          <p:nvPr/>
        </p:nvSpPr>
        <p:spPr>
          <a:xfrm>
            <a:off x="2124000" y="393372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椭圆 8200"/>
          <p:cNvSpPr/>
          <p:nvPr/>
        </p:nvSpPr>
        <p:spPr>
          <a:xfrm>
            <a:off x="4716360" y="393372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椭圆 8201"/>
          <p:cNvSpPr/>
          <p:nvPr/>
        </p:nvSpPr>
        <p:spPr>
          <a:xfrm>
            <a:off x="6012000" y="393372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椭圆 8202"/>
          <p:cNvSpPr/>
          <p:nvPr/>
        </p:nvSpPr>
        <p:spPr>
          <a:xfrm>
            <a:off x="7451640" y="393372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椭圆 8203"/>
          <p:cNvSpPr/>
          <p:nvPr/>
        </p:nvSpPr>
        <p:spPr>
          <a:xfrm>
            <a:off x="2195640" y="479736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椭圆 8204"/>
          <p:cNvSpPr/>
          <p:nvPr/>
        </p:nvSpPr>
        <p:spPr>
          <a:xfrm>
            <a:off x="3492360" y="479736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椭圆 8205"/>
          <p:cNvSpPr/>
          <p:nvPr/>
        </p:nvSpPr>
        <p:spPr>
          <a:xfrm>
            <a:off x="4788000" y="479736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椭圆 8206"/>
          <p:cNvSpPr/>
          <p:nvPr/>
        </p:nvSpPr>
        <p:spPr>
          <a:xfrm>
            <a:off x="6084720" y="4869000"/>
            <a:ext cx="792360" cy="576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23:5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